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647-FF62-4285-B3C5-87C58516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5BB-BEDE-4C8B-B8E5-A6DED8A1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6CD-5B1D-4C44-8960-65541239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9EE-8C0D-451E-8A82-5B644EAC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ABF-EB33-4E83-9EA3-4C2A4A21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CAA-047F-4E1D-B167-FAF8B4EC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878-8041-4488-AC51-F283B520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28D-CA27-4C5F-8F83-96ABFD5E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84E-B054-4255-98FD-39D9D26A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041-970B-4093-9008-2580D959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8E3-6154-4D25-ABC7-4D2CD9C5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94A-0B0F-449D-B9CC-AF6B85CA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AC6D-BFE6-4D10-9162-98E3BBDA6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Feature Article</a:t>
            </a:r>
            <a:br>
              <a:rPr sz="4400"/>
            </a:b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 </a:t>
            </a: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720" y="5915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523520"/>
            <a:ext cx="87627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Readers look for and recognize the things writers do when they are writing a feature artic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Using your feature articles, in groups of two or three, make a list of the elements you notice.</a:t>
            </a:r>
            <a:r>
              <a:rPr b="0" lang="en-US" sz="4400" spc="-1" strike="noStrike">
                <a:solidFill>
                  <a:srgbClr val="ff9406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Let’s talk about the characteristics we notice as we read feature articles.</a:t>
            </a:r>
            <a:r>
              <a:rPr b="0" lang="en-US" sz="4400" spc="-1" strike="noStrike">
                <a:solidFill>
                  <a:srgbClr val="ff633f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Featur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d0b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bcb"/>
                </a:solidFill>
                <a:latin typeface="Palatino"/>
              </a:rPr>
              <a:t>have topics that could happen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d0b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bcb"/>
                </a:solidFill>
                <a:latin typeface="Palatino"/>
              </a:rPr>
              <a:t>are about animals, people, places, or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d0b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bcb"/>
                </a:solidFill>
                <a:latin typeface="Palatino"/>
              </a:rPr>
              <a:t>inform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d0b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bcb"/>
                </a:solidFill>
                <a:latin typeface="Palatino"/>
              </a:rPr>
              <a:t>make the reader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d0b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bcb"/>
                </a:solidFill>
                <a:latin typeface="Palatino"/>
              </a:rPr>
              <a:t>ent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Feature Article 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174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74cb"/>
                </a:solidFill>
                <a:latin typeface="Palatino"/>
              </a:rPr>
              <a:t>show the writer’s point of 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174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74cb"/>
                </a:solidFill>
                <a:latin typeface="Palatino"/>
              </a:rPr>
              <a:t>know about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174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74cb"/>
                </a:solidFill>
                <a:latin typeface="Palatino"/>
              </a:rPr>
              <a:t>care about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174cb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74cb"/>
                </a:solidFill>
                <a:latin typeface="Palatino"/>
              </a:rPr>
              <a:t>show excitement about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s you are reading through your feature articles, find places where the author shows </a:t>
            </a: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that they know </a:t>
            </a: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bout the top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s you are reading through your feature articles, find places where the author shows </a:t>
            </a: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that they care </a:t>
            </a: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bout the top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s you are reading through your feature articles, find places where the author shows </a:t>
            </a:r>
            <a:r>
              <a:rPr b="0" lang="en-US" sz="4400" spc="-1" strike="noStrike">
                <a:solidFill>
                  <a:srgbClr val="1174cb"/>
                </a:solidFill>
                <a:latin typeface="Palatino"/>
              </a:rPr>
              <a:t>excitement </a:t>
            </a:r>
            <a:r>
              <a:rPr b="0" lang="en-US" sz="4400" spc="-1" strike="noStrike">
                <a:solidFill>
                  <a:srgbClr val="bd0bcb"/>
                </a:solidFill>
                <a:latin typeface="Palatino"/>
              </a:rPr>
              <a:t>about the top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5:02:25Z</dcterms:created>
  <dc:creator>AAPS</dc:creator>
  <dc:description/>
  <dc:language>en-US</dc:language>
  <cp:lastModifiedBy>AAPS</cp:lastModifiedBy>
  <dcterms:modified xsi:type="dcterms:W3CDTF">2005-10-20T00:12:05Z</dcterms:modified>
  <cp:revision>16</cp:revision>
  <dc:subject/>
  <dc:title>FEATURE ARTICLE CHARACTERISTICS</dc:title>
</cp:coreProperties>
</file>